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  <p:custShowLst>
    <p:custShow name="Chapter" id="0">
      <p:sldLst>
        <p:sld r:id="rId4"/>
        <p:sld r:id="rId5"/>
      </p:sldLst>
    </p:custShow>
    <p:custShow name="ELI Sect 1" id="1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3"/>
        <p:sld r:id="rId19"/>
        <p:sld r:id="rId20"/>
      </p:sldLst>
    </p:custShow>
    <p:custShow name="ELI Sect 2" id="2">
      <p:sldLst>
        <p:sld r:id="rId21"/>
      </p:sldLst>
    </p:custShow>
    <p:custShow name="ELI STP" id="3">
      <p:sldLst>
        <p:sld r:id="rId7"/>
        <p:sld r:id="rId10"/>
        <p:sld r:id="rId12"/>
        <p:sld r:id="rId15"/>
        <p:sld r:id="rId18"/>
        <p:sld r:id="rId19"/>
        <p:sld r:id="rId9"/>
      </p:sldLst>
    </p:custShow>
    <p:custShow name="Bellringers" id="4">
      <p:sldLst>
        <p:sld r:id="rId4"/>
      </p:sldLst>
    </p:custShow>
    <p:custShow name="Chapter menu" id="5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3"/>
        <p:sld r:id="rId19"/>
        <p:sld r:id="rId20"/>
        <p:sld r:id="rId2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0" descr="earth_sci_cont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228600" y="572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vements of the Oc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72388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6">
            <a:hlinkClick r:id="" action="ppaction://hlinkshowjump?jump=previousslide"/>
          </p:cNvPr>
          <p:cNvSpPr/>
          <p:nvPr/>
        </p:nvSpPr>
        <p:spPr>
          <a:xfrm>
            <a:off x="4829040" y="6172200"/>
            <a:ext cx="7826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7">
            <a:hlinkClick r:id="" action="ppaction://hlinkshowjump?jump=nextslide"/>
          </p:cNvPr>
          <p:cNvSpPr/>
          <p:nvPr/>
        </p:nvSpPr>
        <p:spPr>
          <a:xfrm>
            <a:off x="5838840" y="6172200"/>
            <a:ext cx="809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8">
            <a:hlinkClick r:id="" action="ppaction://hlinkshowjump?jump=firstslide"/>
          </p:cNvPr>
          <p:cNvSpPr/>
          <p:nvPr/>
        </p:nvSpPr>
        <p:spPr>
          <a:xfrm>
            <a:off x="6886440" y="6172200"/>
            <a:ext cx="9828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9">
            <a:hlinkClick r:id="" action="ppaction://hlinkshowjump?jump=endshow"/>
          </p:cNvPr>
          <p:cNvSpPr/>
          <p:nvPr/>
        </p:nvSpPr>
        <p:spPr>
          <a:xfrm>
            <a:off x="8048520" y="6172200"/>
            <a:ext cx="849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684360"/>
            <a:ext cx="8229600" cy="73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ection 1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ean Current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eview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ean Current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tors That Affect Surface Current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jor Surface Current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ding Check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ep Current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ding Check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ation of Deep Ocean Current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ajor Surface Current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urrents in the Southern Hemispher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most southerly regions of the oceans, constant westward winds produce 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 continents interrupt the movement of this curren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completely circles Antarctica and crosses all three major ocean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ajor Surface Current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urrents in the North Atlantic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Gulf Strea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th of Greenland, the Gulf Stream widens and slows until it becomes a vast, slow-moving warm current known as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orth Atlantic Curr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 western Europe, the North Atlantic Current split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ajor Surface Current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urrents in the North Atlantic,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Gulf Stream, the North Atlantic Current, the Canary Current, and the North Equatorial Current form the North Atlantic Gyr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 called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argasso Se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ajor Surface Current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urrents in the North Pacific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atterns of currents in the North Pacific is similar to that in the North Atlantic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warm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Kuroshio Current, the Pacific equivalent of the Gulf Strea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flows northward along the east coast of Asia. This current then flows toward North America as the North Pacific Drift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eventually flows southward along the California coast as the cool California Current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ajor Surface Current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28760" y="14986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iagram below shows the major surface currents of Earth’s ocean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3" name="Picture 9" descr="Untitled-2 copy"/>
          <p:cNvPicPr/>
          <p:nvPr/>
        </p:nvPicPr>
        <p:blipFill>
          <a:blip r:embed="rId1"/>
          <a:stretch/>
        </p:blipFill>
        <p:spPr>
          <a:xfrm>
            <a:off x="1523880" y="2438280"/>
            <a:ext cx="67438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Deep Current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ep curren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ep currents form as cold, dense water of the polar regions sinks and flows beneath warmer ocean water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vement of polar waters is a result of differences in density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Deep Current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ntarctic Bottom Water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emperature of the water near Antarctica is very cold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The water’s salinity is high. These two factors make the water off the coast of Antarctica the densest and coldest ocean water in the world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dense, cold water sinks to the ocean bottom and forms a deep current called the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Antarctic Bottom Wat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Deep Current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orth Atlantic Deep Water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North Atlantic, south of Greenland, the water is very cold and has a high salinity. This cold, salty water forms a deep current that moves southward under the northward flowing Gulf Stream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ense, highly saline water of the Mediterranean Sea forms a deep current as it flows through the strait of Gibraltar and into the less dense Atlantic Ocean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Deep Current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urbidity Current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turbidity current is a strong current caused by an underwater landslid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diment causes the water to become cloudy, or turbid, and denser than the surrounding water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ense water mass of the turbidity current moves beneath the less dense, clear water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ormation of Deep Ocean Current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83" name="ShockwaveFlash1"/>
          <p:cNvGraphicFramePr/>
          <p:nvPr/>
        </p:nvGraphicFramePr>
        <p:xfrm>
          <a:off x="2128680" y="1600200"/>
          <a:ext cx="4937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600200"/>
                    <a:ext cx="4937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wind patterns, the rotation of Earth, and continental barriers affect surface currents in the ocean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dent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jor factor that determines the direction in which a surface current circulate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ifferences in the density of ocean water affect the flow of deep current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cean Current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urren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eanographers identify ocean currents by studying the physical and chemical characteristics of the ocean water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tists place ocean currents into two major categories: surface currents and deep current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actors That Affect Surface Current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urface curren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face currents are controlled by three factors: air currents, Earth’s rotation, and the location of the continent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us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i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moving air, wind has kinetic energy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energy is transferred from the air to the ocean,  the water at the ocean’s surface begins to mov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928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actors That Affect Surface Current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28760" y="1941120"/>
            <a:ext cx="797544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Global Wind Belts</a:t>
            </a:r>
            <a:endParaRPr b="0" lang="en-US" sz="2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3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lobal wind belts, such as the trade winds and westerlies, are a major factor affecting the flow of ocean surface water.</a:t>
            </a:r>
            <a:endParaRPr b="0" lang="en-US" sz="2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3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 both hemispheres, trade-wind belts push currents westward across the tropical latitudes of all three  major oceans.</a:t>
            </a:r>
            <a:endParaRPr b="0" lang="en-US" sz="2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3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esterlies push ocean currents *</a:t>
            </a:r>
            <a:endParaRPr b="0" lang="en-US" sz="2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928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actors That Affect Surface Current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28760" y="1941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ntinental Barrier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continents are another major influence on surface current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ntinents act as barriers to surface current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a surface current flows against a continent, the current is deflected and divided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928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actors That Affect Surface Current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28760" y="1941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he Coriolis Effec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riolis eff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 belts and ocean currents follow a curved or circular pattern that is caused by Earth’s rotation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928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actors That Affect Surface Current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28760" y="1941480"/>
            <a:ext cx="8229600" cy="38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he Coriolis Effect,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gy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 belts and the Coriolis effect cause huge circles of moving water, called gyres, to form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rthern Hemisp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water flow in gyres is to the right, 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ockwi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In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outhern Hemisphere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low is to the left, or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counterclockwi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ajor Surface Current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quatorial Current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rm equatorial currents are located in the Atlantic, Pacific, and Indian Oceans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f these oceans has two warm-water equatorial currents that move in a westward direction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ween these westward-flowing currents lies a weaker, eastward-flowing current called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quatorial Countercurrent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it Rocksund</dc:creator>
  <dc:description/>
  <dc:language>en-US</dc:language>
  <cp:lastModifiedBy>trocksund</cp:lastModifiedBy>
  <cp:lastPrinted>2004-02-20T14:12:55Z</cp:lastPrinted>
  <dcterms:modified xsi:type="dcterms:W3CDTF">2014-03-26T21:50:49Z</dcterms:modified>
  <cp:revision>650</cp:revision>
  <dc:subject/>
  <dc:title>No Slide Title</dc:title>
</cp:coreProperties>
</file>